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454-7799-46A9-A9DB-2DD6892B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55C-0B56-4C54-B9B6-A9CC0986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411-1F4E-447B-97C5-930DC430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97B-9D4A-459C-872D-0296B045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2993-5668-40C7-BEB4-328A9CC4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CAD6-E0D9-4921-9683-99F25FDB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E41C-3620-412D-BCAF-19E8710B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75ED-FD68-4664-8AA7-132311CC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40D6-F6CE-4B9A-B1AE-F158B111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C310-CFB1-4AA9-BC25-9F730607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5326-19BB-46F5-AC6D-2C73D953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1B2-DE00-45D3-9DD6-FE945A4B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5310-9BAE-4501-8CC4-22E2A96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CEF9-1228-4095-873C-3545E39D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0CC6-3BC8-48FD-95A3-53564EA9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CD59-3C53-4981-AB8E-F5ABD5FF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9893-B04C-427C-9D53-007F61CF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6E4-68A6-4510-B717-EA52F19D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19F-09DE-4198-8765-B8370820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932-4821-4B1B-91A8-07EDF58D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DCC-111D-46F4-91CA-CBD3D2BD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06B-9501-4DBE-B701-AAC2B53B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AD6-698E-47DD-B858-64308386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286-558F-4A4C-BFBC-CC3B5BE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CB88-5593-4D25-AA9E-BF528DAF9C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FEA0-668F-4AC0-A46C-F9FB6A7905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Monday, November 15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ompute angle measures for complementary, supplementary, and vertical ang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Solve angle measures using algebraic relationships created when a transversal intersects parallel li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ll Work: What is your math goal between now and December 17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 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How will you get ther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ignment: Lesson 3.4, problems 1-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Tuesday, November 16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Compute angle measures for complementary, supplementary, and vertical ang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Solve angle measures using algebraic relationships created when a transversal intersects parallel 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l Work: What are parallel lines?  How can you prove lines are parallel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e 3.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ignment: Review Chapter 3.1-3.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 Thursd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Thursday, November 18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Verdana"/>
              </a:rPr>
              <a:t>Objective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Choose appropriate label for a polygon based on given attribu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l Work: Why does what you wear affect others’ perceptions about you?  (At least 3 complete sentences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 Unit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lyg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ignment:  Lesson 6.1, Problems 1-3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1-19T20:01:03Z</dcterms:modified>
  <cp:revision>64</cp:revision>
  <dc:subject/>
  <dc:title>Slide 1</dc:title>
</cp:coreProperties>
</file>